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4E9-DF25-4B3C-9626-5074F61B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0F8-A05C-4822-AAC4-D2C590AA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FCC-2C81-4B6D-BCBB-FB5EA13E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E5D-A8E0-4A5C-9E9E-9C64462B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A6C-5FC6-4DAB-94FE-FD725C8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682-CE4C-40BF-AF88-2EA45F99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E71-05F0-4488-8BB3-2EF0845B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817-21BA-40A0-BC04-5B7020A7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ECC-6F11-444A-9674-3E976606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17A-AA19-44CD-8E9C-3B544AE4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07E-33A5-4681-B8AB-1C57E82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A11-1EBB-46CA-8D6D-F69ADB71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62E-3506-470D-AE99-62F0F9E1B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upload.wikimedia.org/wikipedia/he/3/3a/&#1514;&#1497;&#1489;&#1514;_&#1491;&#1493;&#1488;&#1512;_&#1502;&#1504;&#1491;&#1496;&#1493;&#1512;&#1497;&#1514;_&#1489;&#1497;&#1512;&#1493;&#1513;&#1500;&#1497;&#1501;_.jpg&amp;imgrefurl=http://loqipol.com/keyword/%25D7%25AA%25D7%2599%25D7%2591%25D7%25AA%2520%25D7%2593%25D7%2595%25D7%2590%25D7%25A8/&amp;usg=__MMq48BJUfKeM45zO-CPHfuDvzPM=&amp;h=2288&amp;w=1712&amp;sz=802&amp;hl=en&amp;start=55&amp;sig2=FdlrD9ec8jXVfikTkacxDA&amp;zoom=1&amp;um=1&amp;itbs=1&amp;tbnid=u0ADaUjWtANF_M:&amp;tbnh=150&amp;tbnw=112&amp;prev=/images%3Fq%3D%25D7%25AA%25D7%2599%25D7%2591%25D7%25AA%2B%25D7%2593%25D7%2595%25D7%2590%25D7%25A8%2B%25D7%2591%25D7%2599%25D7%25A9%25D7%25A8%25D7%2590%25D7%259C%26start%3D40%26um%3D1%26hl%3Den%26sa%3DN%26rlz%3D1W1_____en%26ndsp%3D20%26tbs%3Disch:1&amp;ei=qrf4TN7WLoWglAeE7uTuB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chool180.com/files/telegram.gif&amp;imgrefurl=http://www.school180.com/taxonomy/term/12&amp;usg=__2kF9lTJQYfBh6r3zSGZddW520ew=&amp;h=320&amp;w=392&amp;sz=72&amp;hl=en&amp;start=4&amp;sig2=MWTlb41j1JHRpnT2AFYS2A&amp;zoom=1&amp;um=1&amp;itbs=1&amp;tbnid=Nqr63rsGWvMsgM:&amp;tbnh=100&amp;tbnw=123&amp;prev=/images%3Fq%3DTELEGRAM%26um%3D1%26hl%3Den%26rlz%3D1W1_____en%26tbs%3Disch:1&amp;ei=M7z4TInrCML7lwfzgImtBw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/imgres?imgurl=http://tc.sisma.org.il/school/dgania/DocLib7/&#1489;&#1503;%2520&#1490;&#1493;&#1512;&#1497;&#1493;&#1503;.jpg&amp;imgrefurl=http://tc.sisma.org.il/school/dgania/tikshuv/bengurion&amp;usg=__Dh1l0iPdJTsfBiaUoqsBjbhmxP0=&amp;h=500&amp;w=394&amp;sz=19&amp;hl=en&amp;start=1&amp;sig2=VIJAV8smQRoafyyrLiDaDA&amp;zoom=1&amp;um=1&amp;itbs=1&amp;tbnid=byJ_VN4nDyjAeM:&amp;tbnh=130&amp;tbnw=102&amp;prev=/images%3Fq%3D%25D7%2593%25D7%2595%25D7%2599%25D7%2593%2B%25D7%2591%25D7%259F%2B%25D7%2592%25D7%2595%25D7%25A8%25D7%2599%25D7%2595%25D7%259F%26um%3D1%26hl%3Den%26rlz%3D1W1_____en%26tbs%3Disch:1&amp;ei=Jr34TNDQBMWAlAeBmeGFBw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ogle.com/imgres?imgurl=http://www.eap.ucsb.edu/images/postcard.jpg&amp;imgrefurl=http://www.eap.ucsb.edu/students/abroad.html&amp;usg=__3h0JkXxHVYT8SFV_8BN5Z4lh9WE=&amp;h=319&amp;w=465&amp;sz=39&amp;hl=en&amp;start=1&amp;sig2=GyR2Ri2FOHRnVSBDhyOViw&amp;zoom=1&amp;um=1&amp;itbs=1&amp;tbnid=NqQQB8D6eD2fZM:&amp;tbnh=88&amp;tbnw=128&amp;prev=/images%3Fq%3D%25D7%2592%25D7%259C%25D7%2595%25D7%2599%25D7%2594%26um%3D1%26hl%3Den%26rlz%3D1W1_____en%26tbs%3Disch:1&amp;ei=Qbv4TM3gAcKqlAfX04DiBw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www.google.com/imgres?imgurl=http://cafe.themarker.com/nodes/t/911/770/file_0_original.jpg&amp;imgrefurl=http://cafe.themarker.com/post/911779/&amp;usg=__Obqq-xVOS4x9GnD8viVP_vsUKcI=&amp;h=1606&amp;w=965&amp;sz=242&amp;hl=en&amp;start=22&amp;sig2=5Q-0FnKvWTGaFQQrna-6og&amp;zoom=1&amp;um=1&amp;itbs=1&amp;tbnid=8NX4NtEoaz2z9M:&amp;tbnh=150&amp;tbnw=90&amp;prev=/images%3Fq%3D%25D7%2597%25D7%2591%25D7%2599%25D7%259C%25D7%2594%2B%25D7%259E%25D7%259B%25D7%25AA%25D7%2591%2B%25D7%2591%25D7%259E%25D7%25A2%25D7%2598%25D7%25A4%25D7%2594%26start%3D20%26um%3D1%26hl%3Den%26sa%3DN%26rlz%3D1W1_____en%26ndsp%3D20%26tbs%3Disch:1&amp;ei=grv4TIijJsSblgex4Y2eBg" TargetMode="External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zmz.co.il/VIRUF/&#1502;&#1506;&#1496;&#1508;&#1492;2.png&amp;imgrefurl=http://www.zmz.co.il/news.aspx%3Fcid%3D67%26aid%3D2292&amp;usg=__b4hCmMiXznKGtewBq2oem2ILUmc=&amp;h=389&amp;w=600&amp;sz=41&amp;hl=en&amp;start=2&amp;sig2=Sv4lw6bclHULj4t2-48kIA&amp;zoom=1&amp;um=1&amp;itbs=1&amp;tbnid=FRmPrbVHkYW_dM:&amp;tbnh=88&amp;tbnw=135&amp;prev=/images%3Fq%3D%25D7%259E%25D7%25A2%25D7%2598%25D7%25A4%25D7%2594%26um%3D1%26hl%3Den%26rlz%3D1W1_____en%26tbs%3Disch:1&amp;ei=obP4TMOSKcH_lgfeoKDiBw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ur  11  milim  1-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דואר   /  טלכרט  /  מברק  /  פלאפון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מעטפה  /  פקס  /  בול  /   מכתב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דואר  אויר  /  תיבת  דואר  /   גלויה  / חביל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ול  חד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4022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ול    חד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58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כתב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HTAV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532160" cy="2914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3448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דואר   אוי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R  AVIR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2955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יבת     דוא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IVAT  DOAR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448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תיבת  דוא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52680" y="3076560"/>
            <a:ext cx="45720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גלוי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LUYA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63244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גלוי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43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חבילה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17334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ולחים  חבילה  לחייל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4600" y="20383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דוא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2270160"/>
            <a:ext cx="63244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יילים  עם  חביל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גלוי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56386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תיבת   דוא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981080"/>
            <a:ext cx="3357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עגנ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מכתב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933560" cy="267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36482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2351160"/>
            <a:ext cx="71629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פלאפו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085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דואר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50292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    __ __ __ __ 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רטיס  טלכרט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60199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ברק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666880"/>
            <a:ext cx="4267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חביל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רטיס  טלכר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2039760"/>
            <a:ext cx="594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ול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1386000"/>
            <a:ext cx="41086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מברק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4488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עטפ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525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דויד  בן  גורי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בר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096240" cy="5010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05120"/>
            <a:ext cx="179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 עושים   בדוא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של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2362320"/>
            <a:ext cx="12189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1447920"/>
            <a:ext cx="1143000" cy="1904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914400" y="4038480"/>
            <a:ext cx="1766880" cy="132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2666880" y="5418000"/>
            <a:ext cx="1752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ברק      מ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VRAK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6362640" cy="5230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9712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פלאפו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LEPHONE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76720" y="194328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עטפ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236680"/>
            <a:ext cx="525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פקס (לפקסס )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ול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805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ולים      יש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1886040" cy="351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105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39:26Z</dcterms:created>
  <dc:creator>Preferred Customer</dc:creator>
  <dc:description/>
  <dc:language>en-US</dc:language>
  <cp:lastModifiedBy>aschlezinger</cp:lastModifiedBy>
  <dcterms:modified xsi:type="dcterms:W3CDTF">2010-12-06T19:49:13Z</dcterms:modified>
  <cp:revision>3</cp:revision>
  <dc:subject/>
  <dc:title>Shiur  11  milim  1-12 </dc:title>
</cp:coreProperties>
</file>